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768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12920" y="102708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34600"/>
            <a:ext cx="86029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2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534600"/>
            <a:ext cx="86029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7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7480"/>
            <a:ext cx="4197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534600"/>
            <a:ext cx="86029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698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680" y="4587480"/>
            <a:ext cx="27698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8480" y="4587480"/>
            <a:ext cx="27698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534600"/>
            <a:ext cx="86029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534600"/>
            <a:ext cx="86029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34600"/>
            <a:ext cx="86029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534600"/>
            <a:ext cx="86029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534600"/>
            <a:ext cx="860292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534600"/>
            <a:ext cx="86029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7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534600"/>
            <a:ext cx="86029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7480"/>
            <a:ext cx="4197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534600"/>
            <a:ext cx="86029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2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534600"/>
            <a:ext cx="86029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Bitstream Charter"/>
                <a:ea typeface="Bitstream Vera Sans"/>
              </a:rPr>
              <a:t>IMPRESS: AUXILIANDO NOS PLANOS DE AULA DOS PROFESSORES</a:t>
            </a:r>
            <a:endParaRPr b="1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0360" y="1800360"/>
            <a:ext cx="90727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8000"/>
              </a:lnSpc>
              <a:buNone/>
              <a:tabLst>
                <a:tab algn="l" pos="0"/>
                <a:tab algn="l" pos="23508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jeto elaborado pelos professores Sandra Aparecida Batista, Sidinei Melquiades e Zilda Tavares de Lima a ser apresentado ao NTE – Núcleo de Tecnologia Educacional de Nova Andradina, a fim de atender os professores da E.E. Dorcelina de Oliveira Folad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1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360360" y="2066400"/>
            <a:ext cx="9072720" cy="49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1440000"/>
            <a:ext cx="9720360" cy="594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0880" y="549360"/>
            <a:ext cx="860580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E. DORCELINA DE OLIVEIRA FOLADOR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740880" y="2146320"/>
            <a:ext cx="86058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lnSpc>
                <a:spcPct val="93000"/>
              </a:lnSpc>
              <a:buNone/>
              <a:tabLst>
                <a:tab algn="l" pos="0"/>
                <a:tab algn="l" pos="21096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retora: Edna Rosana Marques da Sil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0960" indent="0" algn="ctr">
              <a:lnSpc>
                <a:spcPct val="93000"/>
              </a:lnSpc>
              <a:buNone/>
              <a:tabLst>
                <a:tab algn="l" pos="0"/>
                <a:tab algn="l" pos="21096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0960" indent="0" algn="ctr">
              <a:lnSpc>
                <a:spcPct val="93000"/>
              </a:lnSpc>
              <a:buNone/>
              <a:tabLst>
                <a:tab algn="l" pos="0"/>
                <a:tab algn="l" pos="21096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ordenadores: Rosangela Rosa e Elias Vasconcelos Fró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0960" indent="0" algn="ctr">
              <a:lnSpc>
                <a:spcPct val="93000"/>
              </a:lnSpc>
              <a:buNone/>
              <a:tabLst>
                <a:tab algn="l" pos="0"/>
                <a:tab algn="l" pos="21096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0960" indent="0" algn="ctr">
              <a:lnSpc>
                <a:spcPct val="93000"/>
              </a:lnSpc>
              <a:buNone/>
              <a:tabLst>
                <a:tab algn="l" pos="0"/>
                <a:tab algn="l" pos="21096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fessores da STE: Sandra Aparecida Batista, Sidinei Malquiades e Zilda Tavares de Lim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8000"/>
              </a:lnSpc>
              <a:buNone/>
              <a:tabLst>
                <a:tab algn="l" pos="0"/>
                <a:tab algn="l" pos="23508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NSIBILIZAR E ORIENTAR OS PROFISSIONAIS DA ESCOLA ESTADUAL PARA QUE PERCEBAM E UTILIZEM AS TECNOLOGIAS DE MANEIRA SIGNIFICATICA NO PROCESSO DE ENSINO E DE APRENDIZAG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itstream Charter"/>
                <a:ea typeface="Bitstream Vera Sans"/>
              </a:rPr>
              <a:t>Objetivos Específico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496520"/>
            <a:ext cx="9072360" cy="55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10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23508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itstream Charter"/>
                <a:ea typeface="Bitstream Vera Sans"/>
              </a:rPr>
              <a:t>Experimentar a tecnologia como recurso para desenvolver  atividades criativas, ricas e diversificada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23508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itstream Charter"/>
                <a:ea typeface="Bitstream Vera Sans"/>
              </a:rPr>
              <a:t>Mostrar a possibilidade de relacionar os conteúdos de sala de aula com os recursos tecnológic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23508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itstream Charter"/>
                <a:ea typeface="Bitstream Vera Sans"/>
              </a:rPr>
              <a:t>Demonstrar que o uso do programa  BrOffice aplicativo IMPRESS “comunica”  de forma clara, atrativa e convincen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23508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itstream Charter"/>
                <a:ea typeface="Bitstream Vera Sans"/>
              </a:rPr>
              <a:t>Proporcionar a oportunidade de utilizar-se de recursos de projeção como datashow ou projetor multimídia para ampliar a tela de projeção em sala de aul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1590480"/>
            <a:ext cx="9072360" cy="53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8000"/>
              </a:lnSpc>
              <a:buNone/>
              <a:tabLst>
                <a:tab algn="l" pos="0"/>
                <a:tab algn="l" pos="23508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 presente projeto foi realizado a partir de um levantamento da necessidade dos professores da rede Estadual, para complementar os planos de aula e enriquecer as estratégias de desenvolvimentos dos conteúdos do referencial curricular de cada discipli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7000"/>
              </a:lnSpc>
              <a:buNone/>
              <a:tabLst>
                <a:tab algn="l" pos="0"/>
                <a:tab algn="l" pos="23508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escolha pelo programa BrOffice aplicativo Impress se deu pelo motivo de nós, professores da STE, ter tido contato com as atividades do curso E-proinfo:TICs “Tecnologia de Informação e Comunicação”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JUSTIFICATIVA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728720"/>
            <a:ext cx="907236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1000"/>
              </a:lnSpc>
              <a:buNone/>
              <a:tabLst>
                <a:tab algn="l" pos="0"/>
                <a:tab algn="l" pos="23508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itstream Charter"/>
                <a:ea typeface="Bitstream Vera Sans"/>
              </a:rPr>
              <a:t>Faz-se necessário a implementação desta ação devido à constatação de que muitos dos professores terem dificuldades em manusear o aplicativo IMPRESS, dificuldade esta, que foi constatada  nos professores participantes no curso “Tecnologias na Educação: Ensinando e Aprendendo com as TICs”, o projeto foi aplicado pelos professores multiplicadores da  STE da Escola Estadual Dorcelina de Oliveira Folador, procurando sanar as dificuldades de cada participa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1000"/>
              </a:lnSpc>
              <a:buNone/>
              <a:tabLst>
                <a:tab algn="l" pos="0"/>
                <a:tab algn="l" pos="23508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itstream Charter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612360"/>
            <a:ext cx="907236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2920" y="1506600"/>
            <a:ext cx="9072360" cy="55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just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itstream Charter"/>
                <a:ea typeface="Bitstream Vera Sans"/>
              </a:rPr>
              <a:t>Durante o curso E-proinfo: “Tics”, observamos que, os professores encontraram muitas dificuldades em realizar as atividades que exigia o aplicativo. Verificamos ainda que eles demonstraram interesse em aprender como criar slides e apresentá-los em sala de aula. Confirmamos assim, a necessidade de elaboração desse projeto como forma de incentivo a pesquisa e a importância da utilização dos recursos tecnológicos como forma de estratégias para desenvolver os conteúdos do referencial curricular oferecido pela SED Secretaria Estadual de Educaçã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0960" indent="0" algn="just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2920" y="1767960"/>
            <a:ext cx="4427640" cy="49942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 realização de nosso trabalho deu-se por meio de pesquisa sobre o aplicativo nas h/a dos profess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9640" y="1800360"/>
            <a:ext cx="4319640" cy="48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612360"/>
            <a:ext cx="907236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2920" y="1767960"/>
            <a:ext cx="4427640" cy="4994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álise dos conteudos referente a disciplina de cada particip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4360" y="1800360"/>
            <a:ext cx="4444920" cy="5127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568440"/>
            <a:ext cx="9072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42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ação e montagem de slides com os alu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040360" y="1800360"/>
            <a:ext cx="4500360" cy="5219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